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AA69-D78C-4DE4-88BE-DCE07830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E5BDF-D0F5-489D-94D6-1295CEC2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002A-41DE-46E5-8831-E4096497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4887D-E9B2-4AD9-90E8-C7B194A1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14D5-4A9A-433E-BEA5-F9BA6BB7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2F35-4936-4529-93C6-903FD5B1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D2FF-019C-4D70-AB15-BE4FBCF5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CD4E-2CF0-46E0-9D68-EB302037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128B-8023-4EAA-AC7A-6F08F7D3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7169-F733-4EE1-A277-F1D773BB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C1B9-F82C-4DC4-99E9-808F9A9F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5348-F087-4E71-85DD-3C2A26B4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225D-8FAC-4036-A30A-DB6D3C6B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5DF5-5D3B-4E21-A7C0-26939869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D35F-2DFC-40A9-BB8D-2A6E084C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CFF9-452B-4405-A149-3753333C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FCF3-4DAF-414C-88FF-36255522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AA73-EC70-4A00-AC96-3D34625D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AB53-1CC6-4EAF-AC0E-33B3433D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E8BE-804A-4950-B2C2-543D0B40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CFD9-47FA-4E31-B666-11566044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2261-3FB1-4B5A-9B41-A292D2E7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6F04-60AC-433D-9EA8-405E6B2E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6BBC-ED09-4A7A-A772-3397A56D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1544-7388-4E9C-B362-145A45F4C0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70A1-4D9C-4678-8542-2612C28B80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xample On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48006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ss to Star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142704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o was the first President of the United Sta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860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048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38098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648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62400" y="23353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ll Clin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37640" y="309708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eorge B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69240" y="388620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eorge Washing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1280" y="472428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Jimmy Car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5146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50680" y="16002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+ 1 =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2767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4114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48769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40600" y="2590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24760" y="32558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40600" y="41148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00720" y="4856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eedbac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962520"/>
            <a:ext cx="2057400" cy="914400"/>
          </a:xfrm>
          <a:custGeom>
            <a:avLst/>
            <a:gdLst>
              <a:gd name="textAreaLeft" fmla="*/ 59040 w 2057400"/>
              <a:gd name="textAreaRight" fmla="*/ 1998360 w 2057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8589" h="21600">
                <a:moveTo>
                  <a:pt x="0" y="0"/>
                </a:moveTo>
                <a:lnTo>
                  <a:pt x="48589" y="0"/>
                </a:lnTo>
                <a:lnTo>
                  <a:pt x="48589" y="21600"/>
                </a:lnTo>
                <a:lnTo>
                  <a:pt x="0" y="21600"/>
                </a:lnTo>
                <a:close/>
              </a:path>
              <a:path fill="lightenLess" w="48589" h="21600">
                <a:moveTo>
                  <a:pt x="0" y="0"/>
                </a:moveTo>
                <a:lnTo>
                  <a:pt x="48589" y="0"/>
                </a:lnTo>
                <a:lnTo>
                  <a:pt x="47189" y="1400"/>
                </a:lnTo>
                <a:lnTo>
                  <a:pt x="1400" y="1400"/>
                </a:lnTo>
                <a:close/>
              </a:path>
              <a:path fill="darken" w="48589" h="21600">
                <a:moveTo>
                  <a:pt x="48589" y="0"/>
                </a:moveTo>
                <a:lnTo>
                  <a:pt x="48589" y="21600"/>
                </a:lnTo>
                <a:lnTo>
                  <a:pt x="47189" y="20200"/>
                </a:lnTo>
                <a:lnTo>
                  <a:pt x="47189" y="1400"/>
                </a:lnTo>
                <a:close/>
              </a:path>
              <a:path fill="darkenLess" w="48589" h="21600">
                <a:moveTo>
                  <a:pt x="48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9" y="20200"/>
                </a:lnTo>
                <a:close/>
              </a:path>
              <a:path fill="lighten" w="48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y Sc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3:52:08Z</dcterms:created>
  <dc:creator>jnatale</dc:creator>
  <dc:description/>
  <dc:language>en-US</dc:language>
  <cp:lastModifiedBy>jnatale</cp:lastModifiedBy>
  <dcterms:modified xsi:type="dcterms:W3CDTF">2009-02-19T14:35:27Z</dcterms:modified>
  <cp:revision>5</cp:revision>
  <dc:subject/>
  <dc:title>Example One</dc:title>
</cp:coreProperties>
</file>